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2CDB9-4BC5-41BD-BF5D-2870533B1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3D143-C55A-462F-AA0C-E2A04C161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B79FA-65C1-4784-82FA-52950A826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4849F-9D17-43A9-8E4F-35A74BE57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E115B-6E63-4698-A452-4B42A5E15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ABCE3-8E51-4E38-89EA-C5DB38C10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0B30B-0699-4C49-A2F7-2EF55D211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D92E3-7606-44E8-8C69-319B7EB1C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504DE-31AB-4EF1-B328-1DFD6FC0C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99098-4E0B-47A1-A011-69D200291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D80EC-AEA3-49CC-B9AC-F4E53BAC6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93604-765C-4C78-BD23-CC11C2C39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2B627-8D9E-40D4-A3A9-B4B4014D938C}" type="slidenum">
              <a:rPr b="0" lang="en-N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Forbidden C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By Sophie Robert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tag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357120" y="1428840"/>
            <a:ext cx="4667400" cy="3500280"/>
          </a:xfrm>
          <a:prstGeom prst="rect">
            <a:avLst/>
          </a:prstGeom>
          <a:ln w="0">
            <a:noFill/>
          </a:ln>
        </p:spPr>
      </p:pic>
      <p:sp>
        <p:nvSpPr>
          <p:cNvPr id="45" name="Oval 4"/>
          <p:cNvSpPr/>
          <p:nvPr/>
        </p:nvSpPr>
        <p:spPr>
          <a:xfrm>
            <a:off x="928800" y="1571760"/>
            <a:ext cx="357120" cy="357120"/>
          </a:xfrm>
          <a:prstGeom prst="ellipse">
            <a:avLst/>
          </a:prstGeom>
          <a:noFill/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5"/>
          <p:cNvSpPr/>
          <p:nvPr/>
        </p:nvSpPr>
        <p:spPr>
          <a:xfrm>
            <a:off x="5000760" y="1357200"/>
            <a:ext cx="39290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st of all I drew a square using the rectangle tool. This is outlined in the blue circle. This is going to be my base. Later on I will add colour this shape. Then to make the water line in a curve I used the arc tool which is outlined in the red circle. I will keep going with the curved water line and to make the entrance to the city I will use a straight li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val 6"/>
          <p:cNvSpPr/>
          <p:nvPr/>
        </p:nvSpPr>
        <p:spPr>
          <a:xfrm>
            <a:off x="714240" y="1571760"/>
            <a:ext cx="214560" cy="285480"/>
          </a:xfrm>
          <a:prstGeom prst="ellipse">
            <a:avLst/>
          </a:prstGeom>
          <a:noFill/>
          <a:ln w="3492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tag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285840" y="1428840"/>
            <a:ext cx="5018040" cy="376236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5429160" y="1428840"/>
            <a:ext cx="3429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s when I have added colour and height to my base. To add colour to my base and water I used the paint tool which is in the red circle. To add height to the the base I used the push/pull tool which is in the blue circle. I have also made the base and water bigger by using the push/pull tool which is outlined in the blue circle. To extend the water I used the move/copy tool outlined in the yellow circ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Oval 5"/>
          <p:cNvSpPr/>
          <p:nvPr/>
        </p:nvSpPr>
        <p:spPr>
          <a:xfrm>
            <a:off x="1785960" y="1643040"/>
            <a:ext cx="214200" cy="214200"/>
          </a:xfrm>
          <a:prstGeom prst="ellipse">
            <a:avLst/>
          </a:prstGeom>
          <a:noFill/>
          <a:ln w="316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Oval 6"/>
          <p:cNvSpPr/>
          <p:nvPr/>
        </p:nvSpPr>
        <p:spPr>
          <a:xfrm>
            <a:off x="1571760" y="1643040"/>
            <a:ext cx="214200" cy="21420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Oval 7"/>
          <p:cNvSpPr/>
          <p:nvPr/>
        </p:nvSpPr>
        <p:spPr>
          <a:xfrm>
            <a:off x="1928880" y="1643040"/>
            <a:ext cx="214200" cy="214200"/>
          </a:xfrm>
          <a:prstGeom prst="ellipse">
            <a:avLst/>
          </a:prstGeom>
          <a:noFill/>
          <a:ln w="316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tag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Box 4"/>
          <p:cNvSpPr/>
          <p:nvPr/>
        </p:nvSpPr>
        <p:spPr>
          <a:xfrm>
            <a:off x="5572080" y="1571760"/>
            <a:ext cx="33577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is picture I have made my base bigger so that I can fit more on  It. I have also added the River of Golden Water down the middle.  The Golden River had five bridges of marble down it. The emperor only used the middle bridge.  I will make the bridges at a later stage when I have found the skill 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"/>
          <p:cNvPicPr/>
          <p:nvPr/>
        </p:nvPicPr>
        <p:blipFill>
          <a:blip r:embed="rId1"/>
          <a:stretch/>
        </p:blipFill>
        <p:spPr>
          <a:xfrm>
            <a:off x="571680" y="1643040"/>
            <a:ext cx="4905360" cy="367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tage 4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642960" y="1500120"/>
            <a:ext cx="5048280" cy="3786120"/>
          </a:xfrm>
          <a:prstGeom prst="rect">
            <a:avLst/>
          </a:prstGeom>
          <a:ln w="0">
            <a:noFill/>
          </a:ln>
        </p:spPr>
      </p:pic>
      <p:sp>
        <p:nvSpPr>
          <p:cNvPr id="59" name="TextBox 5"/>
          <p:cNvSpPr/>
          <p:nvPr/>
        </p:nvSpPr>
        <p:spPr>
          <a:xfrm>
            <a:off x="5786280" y="1500120"/>
            <a:ext cx="314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is stage I have added some stairs to the entran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03:13:33Z</dcterms:created>
  <dc:creator>Diocesan School for Girls</dc:creator>
  <dc:description/>
  <dc:language>en-US</dc:language>
  <cp:lastModifiedBy>Diocesan School for Girls</cp:lastModifiedBy>
  <dcterms:modified xsi:type="dcterms:W3CDTF">2009-08-30T23:09:33Z</dcterms:modified>
  <cp:revision>19</cp:revision>
  <dc:subject/>
  <dc:title>Slide 1</dc:title>
</cp:coreProperties>
</file>